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79C6-95F7-4CF2-8A04-37A17D824B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D275-C853-4CAD-9115-B49CDC03A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5487-840E-4E6A-A099-C34FA3F8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BAA-BF4E-4126-8170-E2A5E6CA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8820-455B-4519-8EB6-5063C9A4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0F38-3E9B-413E-96F8-315E5645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65B-AA30-44FF-BC19-718F759B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F15-7664-46A0-AF01-E8D5C65B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3E8-5801-46BA-89B6-6FFDF412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EA2-F171-43F9-8D77-FDA25AD8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2895-718B-4146-8523-DA26A7A4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C7C-7EC2-4C62-AA29-9918A980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861-970A-468E-B1B8-0002FBA0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2AC1-35E4-4C8D-8C2C-4943709584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 Determines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vity vs. Underachie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roaching a need, a task, or a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new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ci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veness vs. Procrast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bility to recognize key factor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alize difficult deci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fer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ence vs. Rude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ing my freedom so I do not off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aste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pend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pendability vs. Inconsistenc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lfilling what I consented to do, even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means unexpected sacri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etermin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tion vs. Fainthear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posing to accomplish right goals 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ime, regardless of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lig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ligence vs. Slo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my time and energy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lete each task assigned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er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ernment vs. Shortsight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the deeper reasons w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ngs hap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iscre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retion vs. Simpleminded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avoiding word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, and attitudes that could b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sirable conse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du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urance vs. Discourage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nward strength to withstand st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o my b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Enthusias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thusiasm vs. Apath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ressing joy in each task as I gi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best ef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lert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ertness vs. Careless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ing Aware of what is taking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ound me so  I can have the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i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ith vs. Presum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actions rooted in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 will yield the best outcom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ven when I cannot see h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exibility vs. Resist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llingness to change plans or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rding to the direction of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h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org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giveness vs. Rej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earing the record of those who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ronged me and not holding a gru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eros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osity vs. Sting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refully managing my resources s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freely give to those in n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entl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tleness vs. Har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consideration and pers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 for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rat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tefulness vs. Unthank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ting others know by my word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s how they have benefited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nor vs. Disrespec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pecting those in 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of the higher authorities t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res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ospit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spitality vs. Lonel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eerfully sharing food, shelter,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versation to benefit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um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ility vs. Pr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nowledging that my achiev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 from the investment of others 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itiativ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itiative vs. Idl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cognizing and doing what need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done before I am asked to do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ttent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entiveness vs. Di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the worth of a person or t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y giving my undivided 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oy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yfulness vs. Self-p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intaining a good attitude, even w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ed with unpleasant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Just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ustice vs. Corru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ing personal responsibility to uph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pure, right, and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yalty vs. Unfaith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ing difficult times to demonstrate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itment to those I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Meek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kness vs. Ang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ielding my personal right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ectations with a desire to 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bed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edience vs. Will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ckly and cheerfully carrying out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rection of those who are respons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rderl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derliness vs. Confus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ranging myself and my surrou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chieve greater effici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tience vs. Restles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pting a difficult situation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a deadline to remove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ersuasive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suasiveness vs. Contenti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uiding vital truths around another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ntal road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Punctua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nctuality vs. Tardi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ing esteem for others by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ght thing at the right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ource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ourcefulness vs. Wasteful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ing practical uses for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s would overlook or dis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vailability vs. Self-centered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ing my own schedule and prior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ary to the wishes of those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ponsibility vs. Unreliabil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and doing what is expecte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vs. Anxie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ing my life around that wh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not be destroyed or taken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f-Control vs. Self-indulg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jecting wrong desires and do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ensitiv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sitivity vs. Callous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ceiving the true attitude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motions of those around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cerit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cerity vs. Hypocris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gerness to do what is right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mo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orough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oroughness vs. Incomplete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what factors will diminish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ffectiveness of my work or words 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gl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rifti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iftiness vs. Extravaga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ing myself and others to sp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y what is necess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lerance vs. Prejud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everyone is at vary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ls of character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ruthful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uthfulness vs. Decep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arning future trust by accurat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orting past fa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Virt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rtue vs. Imp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ral excellence evident in my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 I consistently do what is 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enevol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volence vs. Selfi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ing to others’ basic needs with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ing as my motive personal re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sd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sdom vs. Foolishn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eing and responding to life situ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om a perspective that transcends 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circum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old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ldness vs. Fearful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dence that what I have to say 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is true, right, and j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utiousn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tiousness vs. Rash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nowing how important right timing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accomplishing right 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ssion vs. In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ng whatever is necessary to h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urts of 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ntent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ment vs. Covetous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izing that true happiness does n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 on material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24:33Z</dcterms:created>
  <dc:creator>OKCPS</dc:creator>
  <dc:description/>
  <dc:language>en-US</dc:language>
  <cp:lastModifiedBy>LEGION</cp:lastModifiedBy>
  <dcterms:modified xsi:type="dcterms:W3CDTF">2015-09-11T10:48:26Z</dcterms:modified>
  <cp:revision>7</cp:revision>
  <dc:subject/>
  <dc:title>Character Education</dc:title>
</cp:coreProperties>
</file>